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CCB4-68B5-4448-A0FD-54922205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D05-4505-435C-BC65-C6D50F8C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67E-FB04-4A61-98A1-9C06E9F8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0DB-4D61-4705-BB28-58A09694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5EB-5E0A-4541-9ED9-52A45ECE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FCC-59D4-4DCC-BE7C-2D6B865C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853-41FE-45BB-98F4-5F444900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EC7-7DBA-4F76-9452-8EF7E438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805-9383-46C9-B6A3-F6339906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A76-7098-4984-8591-6AAA1053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06A-C2BD-4F20-A00A-5CD04A80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685-8A67-4EBC-BD17-C6D37D68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5D5C-3698-4E59-BFA4-4A43A45EF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8600" y="304812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WE ARE IN CONTEMPORARY M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RE WE GOING TO USE THIS ANY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Documents and Settings\Tina\Desktop\SCHOOL\SHS 09-10\topbarimage.jpg"/>
          <p:cNvPicPr/>
          <p:nvPr/>
        </p:nvPicPr>
        <p:blipFill>
          <a:blip r:embed="rId1"/>
          <a:stretch/>
        </p:blipFill>
        <p:spPr>
          <a:xfrm>
            <a:off x="1905120" y="762120"/>
            <a:ext cx="5419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752480" y="914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33520" y="25146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143000" y="2057400"/>
            <a:ext cx="7238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kills required for math proficiency are cut and dried, but using these tools takes creativit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mathematics is like the creative process of building a home: The task demands specific skills to lay the foundation, frame in the structure, install plumbing, etc.  But building the home also requires crea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 SOMETIMES DOES NOT PROVIDE EXACT ANS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2619360" cy="262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5638680" y="106668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52480" y="914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33520" y="25146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143000" y="2057400"/>
            <a:ext cx="723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chool math is often either right or wrong.  But in real life, answers are never so clear-c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complex decisions required to choose a good inves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 IS RELEVANT TO MY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2619360" cy="2629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5638680" y="106668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752480" y="914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33520" y="25146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143000" y="20574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atter what your future holds, you will find math involved in many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MA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MATH IS THE SUM OF ITS BRA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The study of the principles of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RITHME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ethods for operating o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LGEB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ethods for working with unknown qua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GEOME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The study of size and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RIGONOME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The study of triangles and their 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ROB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The study of ch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ethods for analyzing data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ALCUL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The study of quantities that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MATH IS A WAY TO MODEL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8380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models can be as simple as a single equation that predicts how the money in your bank account will grow or as complex as a set of thousands of interrelated equations used to represent the global cl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MATH IS A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38080" y="2133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 is called the “language of nature” because it is so useful in describing the natural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87360" y="1890720"/>
          <a:ext cx="837072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890720"/>
                    <a:ext cx="837072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61960" y="585720"/>
          <a:ext cx="622008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585720"/>
                    <a:ext cx="622008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533520" y="33480"/>
          <a:ext cx="8305560" cy="67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480"/>
                    <a:ext cx="8305560" cy="67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676520" y="0"/>
            <a:ext cx="552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657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your attitude towards math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a negative attitude, how did it develop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a positive attitude, can you explain why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3520" y="1600200"/>
            <a:ext cx="80769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eople have a natural affinity towards math as children.  Think back to when you were 5 or 6 years old.  Did you take great pride in counting skills and enjoy puzzles and building blocks? What happened between then and now?  Write a short essay answering the following questions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371600" y="7621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ASSIG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 DOES NOT REQUIRE A SPECIAL B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2619360" cy="2629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5638680" y="106668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52480" y="914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33520" y="25146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43000" y="20574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ly everyone can do math.  All it takes is self-confidence and hard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TH IN MODERN ISSU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TOO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2619360" cy="2629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638680" y="106668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752480" y="914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25146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43000" y="2057400"/>
            <a:ext cx="7238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it’s true that only a few people receive the training needed to work with or discover advanced mathematical concepts, most people  ARE capable of understanding enough math to make informed opin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rue of other fields, too.  Not everyone can be a professional writer, but most people can read a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 DOES NOT MAKE YOU LESS SENS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2619360" cy="2629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5638680" y="106668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752480" y="914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33520" y="25146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143000" y="2057400"/>
            <a:ext cx="7238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no accident that people trained in math have made important contributions to art and mu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the math that explains the colors of a sunset or the geometric beauty in a work of art can only enhance its apprec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 MAKES ALLOWANCES FOR CREATI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2619360" cy="2629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5638680" y="106668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1:38:01Z</dcterms:created>
  <dc:creator>Karen Harrington</dc:creator>
  <dc:description/>
  <dc:language>en-US</dc:language>
  <cp:lastModifiedBy>SHS</cp:lastModifiedBy>
  <dcterms:modified xsi:type="dcterms:W3CDTF">2011-06-15T15:18:19Z</dcterms:modified>
  <cp:revision>166</cp:revision>
  <dc:subject/>
  <dc:title>PowerPoint Presentation</dc:title>
</cp:coreProperties>
</file>